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37B-A9E8-40D7-879C-474DB4E4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C14-B4C9-474A-921C-FC356577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8530-DACC-49AE-AB33-7C8EAEB4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C96D-6314-4BEF-925F-AE86E8D4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137D-C593-4D13-BA6E-E74472DA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FD3-C85C-4DEE-88D3-52176274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DD3-DECC-4FE3-B709-44014B2A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893-EBAB-4B9B-A727-23190809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CCCD-1BF2-4DC2-A5AA-B5AD07BC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69D-11F8-4109-84DB-F560E19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AF5A-FCD2-49FB-ABCB-EF175C0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40F-1E32-4251-A4F4-04A4AA8F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2909-1FB1-48A5-B5F6-5EF8DA1D4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t es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2697120" cy="371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92680" y="1600200"/>
            <a:ext cx="3219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U est…(Mlle. Smith’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324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y White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2840" y="1600200"/>
            <a:ext cx="306576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8160" y="1752480"/>
            <a:ext cx="3790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i Manning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58680" y="1752480"/>
            <a:ext cx="3343320" cy="4648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870440" y="1639800"/>
            <a:ext cx="35942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. Shuester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322800" cy="381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9880" y="2465280"/>
            <a:ext cx="48769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wie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14440" y="2786040"/>
            <a:ext cx="3490920" cy="353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53040" y="1600200"/>
            <a:ext cx="3027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k Cannon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867040" cy="467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114800" y="2209680"/>
            <a:ext cx="4343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loh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89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lle. Smith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560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ack Obama es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1:23:58Z</dcterms:created>
  <dc:creator>asmith</dc:creator>
  <dc:description/>
  <dc:language>en-US</dc:language>
  <cp:lastModifiedBy>asmith</cp:lastModifiedBy>
  <dcterms:modified xsi:type="dcterms:W3CDTF">2010-10-27T21:42:21Z</dcterms:modified>
  <cp:revision>2</cp:revision>
  <dc:subject/>
  <dc:title>Slide 1</dc:title>
</cp:coreProperties>
</file>